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4FD-A4EC-4988-8F1E-E76CD04E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23C-7193-4A6C-B493-1121D826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1D2-D911-4D74-A6F8-AA980624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5EC-270E-494B-B390-AC0D2D5E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34A-F6E0-4174-BECE-267409FF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06D2-956A-4DC8-A198-92CA4898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859-5715-43FC-B89C-85C5394C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720-F0B9-4A6E-A779-D6322D6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358-400B-48A8-BAA1-E9A7963A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B2E9-9EA6-4E69-98B4-B03D9F4F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3B3E-48C0-4419-A498-3391AC77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D6F-CAB9-4DF7-A331-F556B03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DCA-9837-4BAD-95FB-D6BCD51C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0D07-AE3F-4788-A926-76AB3A9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4435-0991-44A5-9C11-5C8E9BB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91B-E717-4A36-A6CF-2DDC8753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C48-428E-4E14-8B6C-100B9DA2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9454-5A86-41B8-8FD5-62A516A3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58B-6E51-4FC3-933F-9BFDF207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E28-DD53-4E2F-A6E1-ECE8C62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67E-1076-4499-855F-1379512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2B7-8A4E-4A76-932D-F0E3F85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EA2-F26B-4E54-AF5B-A4AE334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81C-3B01-4072-A147-D827227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ED1-B87A-4F73-A308-1160776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E08-5FF0-49A4-8493-77D52B3CEB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12F-68A2-4B44-8361-4A6B70B59D1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lkonline.net/imag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lkonline.net/imag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lkonline.net/video-i-have-a-dream-spee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lkonline.net/video-martin-luther-king-last-speech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har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rtin Luther K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o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Martin Luther King Picture Gall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572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enuine leader is not a searcher for consensus not a model. A lie can’t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can not ride your back unless it’s bent. A man who won’t die for something is not fit to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Martin Luther King Picture Gall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515628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nation or civilization that continues to produce soft-minded men purchases its own spiritual  death on the installment pl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Watch the Full 16 min video of Martin Luther King's famous I Have a Dream Speach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434340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        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ight delayed is a right deni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Martin Luther King's Final Speech - I've Been to the Mountaint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76720"/>
            <a:ext cx="31431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progress is precarious, and the solution of one problem brings us face to face with another probl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Photo: Dr. Martin Luther King, Jr. giving a speech"/>
          <p:cNvPicPr/>
          <p:nvPr/>
        </p:nvPicPr>
        <p:blipFill>
          <a:blip r:embed="rId1"/>
          <a:stretch/>
        </p:blipFill>
        <p:spPr>
          <a:xfrm>
            <a:off x="4952880" y="4205160"/>
            <a:ext cx="3657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iot is the language of the unhea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Photo: Dr. Martin Luther King, Jr. getting Nobel Peace Prize"/>
          <p:cNvPicPr/>
          <p:nvPr/>
        </p:nvPicPr>
        <p:blipFill>
          <a:blip r:embed="rId1"/>
          <a:stretch/>
        </p:blipFill>
        <p:spPr>
          <a:xfrm>
            <a:off x="2286000" y="312408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Photo: Dr. Martin Luther King, Jr. getting Nobel Peace Prize"/>
          <p:cNvPicPr/>
          <p:nvPr/>
        </p:nvPicPr>
        <p:blipFill>
          <a:blip r:embed="rId2"/>
          <a:stretch/>
        </p:blipFill>
        <p:spPr>
          <a:xfrm>
            <a:off x="2286000" y="3276720"/>
            <a:ext cx="44766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11:50Z</dcterms:created>
  <dc:creator>Vanessa Collier</dc:creator>
  <dc:description/>
  <dc:language>en-US</dc:language>
  <cp:lastModifiedBy>Joni George</cp:lastModifiedBy>
  <dcterms:modified xsi:type="dcterms:W3CDTF">2010-04-13T21:05:46Z</dcterms:modified>
  <cp:revision>3</cp:revision>
  <dc:subject/>
  <dc:title>Dharan</dc:title>
</cp:coreProperties>
</file>